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97ED-4A75-43FF-8EA0-F863C98237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0314-CA8C-47A7-8BE6-F7CCBBC26F7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AEB-0895-4C64-AAAA-9BC5907E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0A6-4DC9-4390-8870-3380633B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25F-64C6-4FDA-9284-BC025814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106-1355-4071-8AB0-C515CC37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5A59-5262-463C-8480-00FD7AFE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374-97AA-4C8B-9BE1-B9BE2CB3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14A5-CA4B-4A74-9F35-B8EF4C3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6A89-1528-4E31-88A7-00F191E0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C26B-3ABE-49D8-AE40-92F9A227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2801-8AD0-4818-9F56-9C169B7D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EE16-B852-42B4-8E49-6EC92655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33A-C41E-4877-9C0E-EF1A1CA7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CB90-D282-449E-A6E8-88CAE0CF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6BDD-292B-47C0-B652-4F34B3E7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70C-AAFD-4FFA-BABE-82D2894F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63E3-3C03-47DB-A5B0-16ED7068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100B-F870-4D7D-837D-A1F31270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6B53-F2F1-4803-8627-D16E06AF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1BE7-DBA9-467C-8AFA-00855BBB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06A9-CC5E-4213-87D7-E5109EBE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3FEA-5ADD-4E05-8AD4-C2530439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7742-DF07-4302-9B81-B725E9EF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07F-70EE-4752-9609-1EAA93C9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3F4E-70A3-49C6-87BB-A8210B8A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7134-28E8-4B84-A2A8-C1342A95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EF47-E231-4EF1-9487-9E27900D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978E-C38D-4BC7-9EE8-F507C11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A1C6-F138-4458-97D2-C4D34A78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0356-2C1E-416C-B942-A82CD7F4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2223-FA32-4FA3-A59C-A0C54AA1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E3BEE-FD39-4F92-95F8-E61926F7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3773-78AB-4BD4-AA31-D46A9D07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8525A-159A-4F57-99DB-4E3C3AA2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510-AE4B-4699-883D-3FA864A8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26F6-6D5B-4E0A-939E-1598419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54C6-6D1B-4873-A3E7-57084A6F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9D14-D081-4B4D-9B9B-A31B745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04A4-BD5B-4622-9524-4795977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9895-11F2-4264-BC0E-C950057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3FDB-58BE-44E2-8922-8CAB336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09CEF-E7D4-4C88-B034-BE66351B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73E16-7F17-43B7-8DC3-222EA165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EB9EB-3593-4D6F-8A08-BCCDDEF0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110-37A5-4B6C-B854-037D93BC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05A-E86A-41FD-AAE2-9EDC4B8B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4ED-3C62-44A6-92E5-EF0124B0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563-5FB4-4D84-B381-49F452C8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F91-C43F-4E40-8030-C599911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22FC-E5DC-4572-9F5A-25D7ABB3D2B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88C6-0BB5-4BC4-AD33-F91B0669C13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8F96-CBAE-4386-9F51-12973801207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1E74-422C-489E-9813-64BF03DC431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http://prostoykarandash.ru/uploads/posts/2019-09/1569498583_2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"/>
          <p:cNvSpPr/>
          <p:nvPr/>
        </p:nvSpPr>
        <p:spPr>
          <a:xfrm>
            <a:off x="0" y="115920"/>
            <a:ext cx="903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резентация на тему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овый год!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одготовила воспитатель 2гр. Обушкова Е.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3780000" y="609300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г. Иркутск 202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zwalls"/>
          <p:cNvPicPr/>
          <p:nvPr/>
        </p:nvPicPr>
        <p:blipFill>
          <a:blip r:embed="rId1"/>
          <a:stretch/>
        </p:blipFill>
        <p:spPr>
          <a:xfrm>
            <a:off x="3564000" y="1757520"/>
            <a:ext cx="5348160" cy="33429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539640" y="704880"/>
            <a:ext cx="2735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 в коробки, и в паке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Упакованы конфеты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нтики так ярки!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Будут всем... (подар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3827520" cy="57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 </a:t>
            </a:r>
            <a:br>
              <a:rPr sz="2600"/>
            </a:br>
            <a:r>
              <a:rPr b="1" lang="ru-RU" sz="2600" spc="-1" strike="noStrike">
                <a:solidFill>
                  <a:srgbClr val="ff0000"/>
                </a:solidFill>
                <a:latin typeface="Tahoma"/>
                <a:ea typeface="Tahoma"/>
              </a:rPr>
              <a:t>ЭТО - ЦИТРУСОВЫЙ ФРУКТ,</a:t>
            </a:r>
            <a:br>
              <a:rPr sz="2600"/>
            </a:br>
            <a:r>
              <a:rPr b="1" lang="ru-RU" sz="2600" spc="-1" strike="noStrike">
                <a:solidFill>
                  <a:srgbClr val="ff0000"/>
                </a:solidFill>
                <a:latin typeface="Tahoma"/>
                <a:ea typeface="Tahoma"/>
              </a:rPr>
              <a:t>НОВОГОДНИЙ ОЧЕНЬ.</a:t>
            </a:r>
            <a:br>
              <a:rPr sz="2600"/>
            </a:br>
            <a:r>
              <a:rPr b="1" lang="ru-RU" sz="2600" spc="-1" strike="noStrike">
                <a:solidFill>
                  <a:srgbClr val="ff0000"/>
                </a:solidFill>
                <a:latin typeface="Tahoma"/>
                <a:ea typeface="Tahoma"/>
              </a:rPr>
              <a:t>ВСЕХ ДРУЗЕЙ И ВСЕХ ПОДРУГ</a:t>
            </a:r>
            <a:br>
              <a:rPr sz="2600"/>
            </a:br>
            <a:r>
              <a:rPr b="1" lang="ru-RU" sz="2600" spc="-1" strike="noStrike">
                <a:solidFill>
                  <a:srgbClr val="ff0000"/>
                </a:solidFill>
                <a:latin typeface="Tahoma"/>
                <a:ea typeface="Tahoma"/>
              </a:rPr>
              <a:t>ОН ПОЗДРАВИТЬ ХОЧЕТ.</a:t>
            </a:r>
            <a:br>
              <a:rPr sz="2600"/>
            </a:br>
            <a:r>
              <a:rPr b="1" lang="ru-RU" sz="2600" spc="-1" strike="noStrike">
                <a:solidFill>
                  <a:srgbClr val="ff0000"/>
                </a:solidFill>
                <a:latin typeface="Tahoma"/>
                <a:ea typeface="Tahoma"/>
              </a:rPr>
              <a:t>ОН ОРАНЖЕВЫЙ И ЯРКИЙ</a:t>
            </a:r>
            <a:br>
              <a:rPr sz="2600"/>
            </a:br>
            <a:r>
              <a:rPr b="1" lang="ru-RU" sz="2600" spc="-1" strike="noStrike">
                <a:solidFill>
                  <a:srgbClr val="ff0000"/>
                </a:solidFill>
                <a:latin typeface="Tahoma"/>
                <a:ea typeface="Tahoma"/>
              </a:rPr>
              <a:t>И ЛЕЖИТ В ТВОЕМ ПОДАРКЕ. (МАНДАРИН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5" descr="Картинка 1"/>
          <p:cNvPicPr/>
          <p:nvPr/>
        </p:nvPicPr>
        <p:blipFill>
          <a:blip r:embed="rId1"/>
          <a:stretch/>
        </p:blipFill>
        <p:spPr>
          <a:xfrm>
            <a:off x="4284720" y="1628640"/>
            <a:ext cx="468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ЧТО ТАКОЕ НОВЫЙ ГОД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5" descr="02829056"/>
          <p:cNvPicPr/>
          <p:nvPr/>
        </p:nvPicPr>
        <p:blipFill>
          <a:blip r:embed="rId1"/>
          <a:stretch/>
        </p:blipFill>
        <p:spPr>
          <a:xfrm>
            <a:off x="-1260360" y="-100080"/>
            <a:ext cx="1072836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338292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entury Gothic"/>
              </a:rPr>
              <a:t>УКРАШЕНА ИГРУШКАМИ,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entury Gothic"/>
              </a:rPr>
              <a:t>ШАРАМИ И ХЛОПУШКАМИ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entury Gothic"/>
              </a:rPr>
              <a:t>НЕ ПАЛЬМА,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entury Gothic"/>
              </a:rPr>
              <a:t>НЕ СОСЕНОЧКА,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entury Gothic"/>
              </a:rPr>
              <a:t>А ПРАЗДНИЧНАЯ... (ЕЛОЧКА)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Picture 4" descr="34142835"/>
          <p:cNvPicPr/>
          <p:nvPr/>
        </p:nvPicPr>
        <p:blipFill>
          <a:blip r:embed="rId1"/>
          <a:stretch/>
        </p:blipFill>
        <p:spPr>
          <a:xfrm>
            <a:off x="4211640" y="404640"/>
            <a:ext cx="4572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4186080" cy="45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КТО ПРИХОДИТ В КАЖДЫЙ ДОМ 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В НОВЫЙ ГОД С БОЛЬШИМ МЕШКОМ? 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ШУБА, ШАПКА, КРАСНЫЙ НОС, 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ЭТО ДЕДУШКА … МОРОЗ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5" name="Picture 5" descr="15900847"/>
          <p:cNvPicPr/>
          <p:nvPr/>
        </p:nvPicPr>
        <p:blipFill>
          <a:blip r:embed="rId1"/>
          <a:stretch/>
        </p:blipFill>
        <p:spPr>
          <a:xfrm>
            <a:off x="4788000" y="333360"/>
            <a:ext cx="40320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325116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ahoma"/>
                <a:ea typeface="Tahoma"/>
              </a:rPr>
              <a:t>ВСЯ ИЗ СНЕГА, ИЗО ЛЬДА,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ahoma"/>
                <a:ea typeface="Tahoma"/>
              </a:rPr>
              <a:t>НО НЕ МЕРЗНЕТ НИКОГДА.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ahoma"/>
                <a:ea typeface="Tahoma"/>
              </a:rPr>
              <a:t>ВМЕСТЕ С ДЕДУШКОЙ ПРИДЕТ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ahoma"/>
                <a:ea typeface="Tahoma"/>
              </a:rPr>
              <a:t>К РЕБЯТНЕ НА НОВЫЙ ГОД. (СНЕГУРОЧКА)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7" name="Picture 5" descr="snegurochka-5"/>
          <p:cNvPicPr/>
          <p:nvPr/>
        </p:nvPicPr>
        <p:blipFill>
          <a:blip r:embed="rId1"/>
          <a:stretch/>
        </p:blipFill>
        <p:spPr>
          <a:xfrm>
            <a:off x="4716360" y="404640"/>
            <a:ext cx="4103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j1439355_1388525800"/>
          <p:cNvPicPr/>
          <p:nvPr/>
        </p:nvPicPr>
        <p:blipFill>
          <a:blip r:embed="rId1"/>
          <a:stretch/>
        </p:blipFill>
        <p:spPr>
          <a:xfrm>
            <a:off x="4788000" y="836640"/>
            <a:ext cx="4010040" cy="5057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2852640"/>
            <a:ext cx="41036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ahoma"/>
                <a:ea typeface="Tahoma"/>
              </a:rPr>
              <a:t>МЫ СЛЕПИЛИ СНЕЖНЫЙ КОМ,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ahoma"/>
                <a:ea typeface="Tahoma"/>
              </a:rPr>
              <a:t>ШЛЯПУ СДЕЛАЛИ НА НЁМ,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ahoma"/>
                <a:ea typeface="Tahoma"/>
              </a:rPr>
              <a:t>НОС ПРИДЕЛАЛИ, И В МИГ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ahoma"/>
                <a:ea typeface="Tahoma"/>
              </a:rPr>
              <a:t>ПОЛУЧИЛСЯ... (СНЕГОВИК)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i"/>
          <p:cNvPicPr/>
          <p:nvPr/>
        </p:nvPicPr>
        <p:blipFill>
          <a:blip r:embed="rId1"/>
          <a:stretch/>
        </p:blipFill>
        <p:spPr>
          <a:xfrm>
            <a:off x="3276720" y="2492280"/>
            <a:ext cx="5688000" cy="4176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119160" y="260280"/>
            <a:ext cx="316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лый год лежал на полке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А теперь висит на елке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Это не фонарик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А стеклянный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(шари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754440" cy="565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ЗАПОРОШИЛА ДОРОЖКИ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РАЗУКРАСИЛА ОКОШКИ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РАДОСТЬ ДЕТЯМ ПОДАРИЛА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И НА САНКАХ ПРОКАТИЛА. (ЗИМА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5" descr="https://gamerwall.pro/uploads/posts/2022-08/1661214987_1-gamerwall-pro-p-snegopad-zimoi-oboi-1.jpg"/>
          <p:cNvPicPr/>
          <p:nvPr/>
        </p:nvPicPr>
        <p:blipFill>
          <a:blip r:embed="rId1"/>
          <a:stretch/>
        </p:blipFill>
        <p:spPr>
          <a:xfrm>
            <a:off x="4067280" y="692280"/>
            <a:ext cx="68421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4114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ЗИМОЙ, В ЧАСЫ ВЕСЕЛЬ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ВИШУ НА ЯРКОЙ ЕЛИ Я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СТРЕЛЯЮ, ТОЧНО ПУШКА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ЗОВУТ МЕНЯ ... (ХЛОПУШКА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5" name="Picture 5" descr="O_UIAfb-qcE"/>
          <p:cNvPicPr/>
          <p:nvPr/>
        </p:nvPicPr>
        <p:blipFill>
          <a:blip r:embed="rId1"/>
          <a:stretch/>
        </p:blipFill>
        <p:spPr>
          <a:xfrm>
            <a:off x="5148360" y="1131840"/>
            <a:ext cx="3382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97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И ВЕРХУШКУ УКРАШАЯ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ТАМ СИЯЕТ, КАК ВСЕГДА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ЧЕНЬ ЯРКАЯ, БОЛЬША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ЯТИКРЫЛАЯ ... ЗВЕЗД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7" name="Picture 5" descr="zvezda_elka_makushka_prazdnik_novyy_god_1920x1180"/>
          <p:cNvPicPr/>
          <p:nvPr/>
        </p:nvPicPr>
        <p:blipFill>
          <a:blip r:embed="rId1"/>
          <a:stretch/>
        </p:blipFill>
        <p:spPr>
          <a:xfrm>
            <a:off x="4427640" y="155736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16:19:28Z</dcterms:created>
  <dc:creator>пп</dc:creator>
  <dc:description/>
  <dc:language>en-US</dc:language>
  <cp:lastModifiedBy>Admin</cp:lastModifiedBy>
  <dcterms:modified xsi:type="dcterms:W3CDTF">2024-11-26T14:35:22Z</dcterms:modified>
  <cp:revision>13</cp:revision>
  <dc:subject/>
  <dc:title>Что такое Новый год?</dc:title>
</cp:coreProperties>
</file>