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EBF-579A-4C5E-969F-031A85ED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6E8B-31DE-45D0-B75E-7B8DB26C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471-D86D-41AA-B95B-AC0CF0AA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62B-9279-4112-ABE2-7FDD4F26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A67-BE69-4C79-AA0D-A288AF2C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6BC-8DE4-479B-A20B-EC6AFBA1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9D0-4D90-4A03-9FAA-FE063440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FC52-F49D-4F18-BF5D-EB74B30F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09F-76B7-4AEA-B366-07FBC551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D49-8C28-446C-BE75-DE127E22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A23-D69F-4BD9-A681-5335A64C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35B-A712-4523-BE1A-D8A2165D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D6F1-3F10-4F79-8C49-BE0BDF24A3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4260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1213920"/>
            <a:ext cx="81025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Интерактивные игры как средство развития логического мышления у детей старшего дошкольного возрас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2060"/>
                </a:solidFill>
                <a:latin typeface="Times New Roman"/>
              </a:rPr>
              <a:t>Подготовил: Струкова И.В.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2060"/>
                </a:solidFill>
                <a:latin typeface="Times New Roman"/>
              </a:rPr>
              <a:t>педагог-психоло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1" descr="4-7"/>
          <p:cNvPicPr/>
          <p:nvPr/>
        </p:nvPicPr>
        <p:blipFill>
          <a:blip r:embed="rId1"/>
          <a:stretch/>
        </p:blipFill>
        <p:spPr>
          <a:xfrm>
            <a:off x="642960" y="4286160"/>
            <a:ext cx="22096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s://trafaret-decor.ru/sites/default/files/2022-08/smile/2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s://cache3.youla.io/files/images/720_720_out/5c/38/5c38fdf4821a99603a59dad7.jpg"/>
          <p:cNvPicPr/>
          <p:nvPr/>
        </p:nvPicPr>
        <p:blipFill>
          <a:blip r:embed="rId3"/>
          <a:stretch/>
        </p:blipFill>
        <p:spPr>
          <a:xfrm>
            <a:off x="2071800" y="2971800"/>
            <a:ext cx="5143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2381513"/>
          <p:cNvPicPr/>
          <p:nvPr/>
        </p:nvPicPr>
        <p:blipFill>
          <a:blip r:embed="rId1"/>
          <a:stretch/>
        </p:blipFill>
        <p:spPr>
          <a:xfrm>
            <a:off x="785880" y="4460760"/>
            <a:ext cx="3281400" cy="1974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Вы узнаете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06040" y="1557360"/>
            <a:ext cx="78915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такое интерактивные игр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д и польза использования ИК- технологий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компьютерные игры развивают у дошкольников логическое мышл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безопасные интернет ресурсы можно использов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56760" y="357120"/>
            <a:ext cx="8358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ИКТ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технологии, использующие специальные программные и технические средства для доступа к различным информационным источникам и инструменты совместной деятельности, направленные на получение конкретного результ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https://cdn.culture.ru/images/1edaab4a-3162-56d6-8713-c9a54a8619f7"/>
          <p:cNvPicPr/>
          <p:nvPr/>
        </p:nvPicPr>
        <p:blipFill>
          <a:blip r:embed="rId1"/>
          <a:stretch/>
        </p:blipFill>
        <p:spPr>
          <a:xfrm>
            <a:off x="1042920" y="2571840"/>
            <a:ext cx="4510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4360" y="950400"/>
            <a:ext cx="7572240" cy="550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008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олго привлекать и удержива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имание ребенка, благодаря сочетанию  в игре 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жения, звука, мультиплик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оступной, привлекательной, игровой форме достигать нового качества зна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ть у дошкольника исследовательские способности, познавательную активность, навыки и талант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ировать такие ситуации, которые нельзя или сложно увидеть в повседневной жизн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ать самооценку и развивать самостоятельность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ощрять ребенка при решении проблемных задач и преодолении трудн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Прямоугольник 2" descr=""/>
          <p:cNvPicPr/>
          <p:nvPr/>
        </p:nvPicPr>
        <p:blipFill>
          <a:blip r:embed="rId1"/>
          <a:stretch/>
        </p:blipFill>
        <p:spPr>
          <a:xfrm>
            <a:off x="1474920" y="334800"/>
            <a:ext cx="64990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-360" y="1676160"/>
            <a:ext cx="4140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28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это активная обучающая игра, основой которой является процесс взаимодействия участника игры с компьютером, планшетом, доской и/или другими гаджетам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C:\Users\Воспитатель\Downloads\015963ec61_61de954672c77.jpg"/>
          <p:cNvPicPr/>
          <p:nvPr/>
        </p:nvPicPr>
        <p:blipFill>
          <a:blip r:embed="rId1"/>
          <a:stretch/>
        </p:blipFill>
        <p:spPr>
          <a:xfrm>
            <a:off x="3925800" y="981000"/>
            <a:ext cx="5199120" cy="4383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176040" y="476280"/>
            <a:ext cx="396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28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Интерактивная игр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1c54"/>
                </a:solidFill>
                <a:latin typeface="Times New Roman"/>
              </a:rPr>
              <a:t>ЗАЧЕМ  РАЗВИВАТЬ  ЛОГИЧЕСКОЕ МЫШЛЕНИЕ  ДОШКОЛЬНИКО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C:\Users\Воспитатель\Downloads\белый-человек-d-с-большим-голубым-вопросительным-знаком-106882900.jpg"/>
          <p:cNvPicPr/>
          <p:nvPr/>
        </p:nvPicPr>
        <p:blipFill>
          <a:blip r:embed="rId1"/>
          <a:stretch/>
        </p:blipFill>
        <p:spPr>
          <a:xfrm>
            <a:off x="165240" y="2298600"/>
            <a:ext cx="2797200" cy="2791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95280" y="1916280"/>
            <a:ext cx="65530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457200" algn="just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Формируется умение рассуждать, делать умозаключения, выстраивать причинно-следственные свя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457200" algn="just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Формируется мировоззр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457200" algn="just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ебенку будет легко обучаться в школе, решать различные задач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457200" algn="just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8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ПРАВИЛА, КОТОРЫЕ ВАЖНО СОБЛЮДАТЬ!</a:t>
            </a:r>
            <a:r>
              <a:rPr b="1" lang="ru-RU" sz="2800" spc="-1" strike="noStrike">
                <a:solidFill>
                  <a:srgbClr val="11111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Схема 1" descr=""/>
          <p:cNvPicPr/>
          <p:nvPr/>
        </p:nvPicPr>
        <p:blipFill>
          <a:blip r:embed="rId1"/>
          <a:stretch/>
        </p:blipFill>
        <p:spPr>
          <a:xfrm>
            <a:off x="281160" y="1620720"/>
            <a:ext cx="8534160" cy="48531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1116000" y="981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ременные огранич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560" y="99504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Содержание игры должно соответствовать возрасту ребе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Задания должны быть интересны, понятны и просты в управлен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Объекты на экране должны быть большие по размеру и знакомые ребенк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Инструкция по выполнению задания должна озвучиваться диктором либо взрослы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Должен присутствовать элемент успех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0" y="158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ПРАВИЛА, КОТОРЫЕ ВАЖНО СОБЛЮДАТЬ!</a:t>
            </a:r>
            <a:r>
              <a:rPr b="1" lang="ru-RU" sz="2800" spc="-1" strike="noStrike">
                <a:solidFill>
                  <a:srgbClr val="11111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ремя логики с ЛогикЛайк! (logiclike.com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латформ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идактические игры для дошкольников, познавательные игры (igraemsa.r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огические игры для детей 4, 5, 6 лет - Играй онлайн на всех устройствах! (bibusha.r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нтерактивные игры онлай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User</cp:lastModifiedBy>
  <dcterms:modified xsi:type="dcterms:W3CDTF">2025-02-02T07:59:24Z</dcterms:modified>
  <cp:revision>1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910000000000010243100207f6000400038000</vt:lpwstr>
  </property>
</Properties>
</file>